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718-C53D-4588-AB5E-8289CE42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ED5-00AA-48DD-BF2E-0820D81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FC4-D1AB-4FFF-9FD3-2B968BBB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5CC-18C0-4993-838A-031A5481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C4D-DDBE-4A26-A4C0-387B1978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4D0-D9A3-47D1-9401-8B65E59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F18-51CD-4DA5-9E05-263D33A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E11-56AC-42A2-B734-1B903C0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7C6-C39A-4E3C-924E-691C51B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207-6A32-41AA-AEA4-22A4561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BD2-9ED6-4CED-BC5F-FB61E78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5CE-B0BB-4AC4-9617-9A657F8F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D9D3-A177-408C-A159-9CEE5176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324080"/>
            <a:ext cx="784836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ff"/>
                </a:solidFill>
                <a:latin typeface="Monotype Corsiva"/>
              </a:rPr>
              <a:t>El trabajo de investigación se hace poco a poco  - las ideas se han de documentar y diseñar-</a:t>
            </a:r>
            <a:r>
              <a:rPr b="1" lang="ca-ES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63680"/>
            <a:ext cx="4896000" cy="5814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51a3cc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Monotype Corsiva"/>
              </a:rPr>
              <a:t>Principios nuclea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548080"/>
            <a:ext cx="784836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Es necesario hacer investigación en temas que nos motiven –encontrar nuestras líneas de interès  profesional /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5002200"/>
            <a:ext cx="784836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Es aconsejable mantener una perspectiva positiva de la investigación considerándola como una actividad inherente a nuestro propio crecimiento profesional y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3772080"/>
            <a:ext cx="784872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ff"/>
                </a:solidFill>
                <a:latin typeface="Monotype Corsiva"/>
              </a:rPr>
              <a:t>Hacer investigación es siempre un reto y es necesario saber pedir ayuda si hace fa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4280"/>
            <a:ext cx="885672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 actividad investigadora según niveles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5336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928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4000" y="692280"/>
            <a:ext cx="5112000" cy="73332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Monotype Corsiva"/>
              </a:rPr>
              <a:t>Principios nucleares </a:t>
            </a:r>
            <a:r>
              <a:rPr b="1" lang="ca-ES" sz="2800" spc="-1" strike="noStrike">
                <a:solidFill>
                  <a:srgbClr val="ffffff"/>
                </a:solidFill>
                <a:latin typeface="Monotype Corsiva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492280"/>
            <a:ext cx="73440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ff"/>
                </a:solidFill>
                <a:latin typeface="Monotype Corsiva"/>
              </a:rPr>
              <a:t>El trabajo bien hecho, en un momento o en otro, tiene su re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789360"/>
            <a:ext cx="734400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Si se tiene ganas de trabajar no hace falta 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805360"/>
            <a:ext cx="73440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Hay que publicar los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700280"/>
            <a:ext cx="7344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Trabajar en equipo es un “luj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581360"/>
            <a:ext cx="7344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ff"/>
                </a:solidFill>
                <a:latin typeface="Monotype Corsiva"/>
              </a:rPr>
              <a:t>“</a:t>
            </a:r>
            <a:r>
              <a:rPr b="1" lang="ca-ES" sz="2800" spc="-1" strike="noStrike">
                <a:solidFill>
                  <a:srgbClr val="0000ff"/>
                </a:solidFill>
                <a:latin typeface="Monotype Corsiva"/>
              </a:rPr>
              <a:t>Replicar” no es “copiar”. Los estudios replica son la base de la Enfermería Basada en la Ev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71280"/>
            <a:ext cx="885672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 actividad investigadora según niveles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44832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7928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7928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07T22:36:52Z</dcterms:modified>
  <cp:revision>16</cp:revision>
  <dc:subject/>
  <dc:title>Diapositiva 1</dc:title>
</cp:coreProperties>
</file>