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1EE-2FF4-4614-A837-1494AF59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CF6-5E0A-417F-889D-95C2CE3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B1D-BA6C-430A-88ED-C4B6719F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A74-0C14-47C9-9BE9-63A6281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83D-879F-44E1-B237-885BAB2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A49-CE13-44A2-97F5-6C243AAE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77B-F7A2-48B1-90F4-A5C79C2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B23-5869-4309-AF2E-F6AA927C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652-27DB-4F2D-B9C6-733531D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587-31E2-4C6B-BEEC-2503A9D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6EC-AE1E-416B-9395-9CC099C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B41-51E1-4FD0-95AF-94AECFF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4519-A782-4738-AAA6-91C0C56E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66920" y="752400"/>
            <a:ext cx="6410160" cy="1068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4495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Monotype Corsiva"/>
              </a:rPr>
              <a:t>Código ético para el 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2133720"/>
            <a:ext cx="81360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solidFill>
              <a:srgbClr val="6699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Valoración y respeto por el trabajo de los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0200" y="3141720"/>
            <a:ext cx="81360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ca-ES" sz="2800" spc="-1" strike="noStrike">
                <a:solidFill>
                  <a:srgbClr val="0000ff"/>
                </a:solidFill>
                <a:latin typeface="Monotype Corsiva"/>
              </a:rPr>
              <a:t>Presentación del trabajo propio correctamente firmado y con todos los datos para poder ser referenciado fácilmente.</a:t>
            </a:r>
            <a:r>
              <a:rPr b="1" lang="ca-E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4653000"/>
            <a:ext cx="8137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Estar cuando hay que est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5661000"/>
            <a:ext cx="81374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Tener claro que en investigación hay sitio para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 actividad investigadora según niveles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4832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0800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0944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07T22:34:16Z</dcterms:modified>
  <cp:revision>17</cp:revision>
  <dc:subject/>
  <dc:title>Diapositiva 1</dc:title>
</cp:coreProperties>
</file>