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28A-3907-453F-8F13-CCCD30A8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D00-EC3E-4012-B61F-084BB543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2FC-FF17-4CAD-880C-318250AB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6F4-F868-40AB-857F-B7BF4947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D1D-43E3-487A-B1EF-49530D0C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57A-9390-4054-8824-F4C61972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F90-8C2A-45CC-9599-FACD51DC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A47-64AD-4D7F-9E6F-7D5847CA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882-A818-4B39-83F4-A801F639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6A6-1EF4-4180-8559-4383E9BC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8EE-1477-44FD-9B56-1366E47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B47-B30D-43DB-94DC-157871F7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CC2E-01A8-4AD7-B025-EA0E3311E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hyperlink" Target="file:///O-Nivel%20Conceptual.pd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4033800" cy="1511280"/>
          </a:xfrm>
          <a:prstGeom prst="ellipse">
            <a:avLst/>
          </a:prstGeom>
          <a:gradFill rotWithShape="0">
            <a:gsLst>
              <a:gs pos="0">
                <a:srgbClr val="feeca7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NSTRU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38440"/>
            <a:ext cx="3962160" cy="1224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r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uevo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005360"/>
            <a:ext cx="3889080" cy="115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nfirmar / Refu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nocimiento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5229360"/>
            <a:ext cx="4033800" cy="11509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</a:rPr>
              <a:t>Ampliar / Refor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Arial"/>
              </a:rPr>
              <a:t>Conocimiento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0920" y="1052640"/>
            <a:ext cx="4033800" cy="1511280"/>
          </a:xfrm>
          <a:prstGeom prst="ellipse">
            <a:avLst/>
          </a:prstGeom>
          <a:gradFill rotWithShape="0">
            <a:gsLst>
              <a:gs pos="0">
                <a:srgbClr val="feeca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APORT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EVID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2708280"/>
            <a:ext cx="3671640" cy="1224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VALORACIONE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DIAGNO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4075200"/>
            <a:ext cx="3672000" cy="115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INTERV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48360" y="5372280"/>
            <a:ext cx="3671640" cy="10094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04640"/>
            <a:ext cx="87854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Monotype Corsiva"/>
              </a:rPr>
              <a:t>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452520"/>
            <a:ext cx="42498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vel   CONCEP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44280"/>
            <a:ext cx="892800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¿Qué significa investigar?. Desarrollo de la actividad investigadora según niveles (M.T. Lluch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414360"/>
            <a:ext cx="720720" cy="3319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79280" y="774720"/>
            <a:ext cx="720720" cy="1332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6453360"/>
            <a:ext cx="9144000" cy="4006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Maria Teresa LLUCH CANUT Catedratica de Enfermería Psicosocial y Salud Mental Escuela de Enfermeria. Universidad de Barcelona. Email: tlluch@ub.edu</a:t>
            </a:r>
            <a:r>
              <a:rPr b="0" lang="ca-E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Barcelona: octubr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" spc="-1" strike="noStrike">
                <a:solidFill>
                  <a:srgbClr val="000000"/>
                </a:solidFill>
                <a:latin typeface="Arial"/>
              </a:rPr>
              <a:t>Este documento está sujeto a una Licencia Creative Commons (http://creativecommons.org/licenses/by-nc-sa/2.5/e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404640"/>
            <a:ext cx="976320" cy="586080"/>
          </a:xfrm>
          <a:prstGeom prst="rightArrow">
            <a:avLst>
              <a:gd name="adj1" fmla="val 50000"/>
              <a:gd name="adj2" fmla="val 41646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Monotype Corsiva"/>
                <a:hlinkClick r:id="rId5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2:38:15Z</dcterms:created>
  <dc:creator>PC</dc:creator>
  <dc:description/>
  <dc:language>en-US</dc:language>
  <cp:lastModifiedBy>PC</cp:lastModifiedBy>
  <dcterms:modified xsi:type="dcterms:W3CDTF">2008-11-13T22:00:22Z</dcterms:modified>
  <cp:revision>13</cp:revision>
  <dc:subject/>
  <dc:title>Diapositiva 1</dc:title>
</cp:coreProperties>
</file>