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05A6-69C3-405B-B12C-66D480C94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D45D-5874-49C7-A90A-0F2B1023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A8B8-68FB-4F59-A2BF-553CF6622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EFD6-CD7D-4323-8A9D-CAF04563C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0301-FF95-46B7-981E-5C85F96E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7B31-D83C-4ACC-90F0-9B2AB8B1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2AFF-6AB8-4D48-905E-AE55ACFB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3A26-96F6-48FD-80DF-642FE4B6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A02F-5FA1-4E68-A6A9-F2D67F2A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B41D-69C5-41E7-AB72-001F763B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D1FC-559A-4471-B78A-EC2E4FFC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B72C-9C6B-4C91-B029-9303370A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8DA7-2877-448C-A5C1-FD05E598F8C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405080" y="-747720"/>
            <a:ext cx="12192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1260360" y="-674640"/>
            <a:ext cx="1219176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600" y="-380880"/>
            <a:ext cx="1219212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13:07:01Z</dcterms:created>
  <dc:creator>PC</dc:creator>
  <dc:description/>
  <dc:language>en-US</dc:language>
  <cp:lastModifiedBy>ub</cp:lastModifiedBy>
  <dcterms:modified xsi:type="dcterms:W3CDTF">2008-10-22T16:03:20Z</dcterms:modified>
  <cp:revision>5</cp:revision>
  <dc:subject/>
  <dc:title>Diapositiva 1</dc:title>
</cp:coreProperties>
</file>