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21C-BDD5-4DE6-807C-470D80DC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7FF-9E60-47DF-9423-4F30CA55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2E5-3AD2-4D42-BE5E-A7683CAE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0E6-6950-46D0-8017-61711233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F62-A02E-4CFB-863B-3562F8FC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9E9-3254-4D59-9F0A-AB202A4A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BA4-B4C9-4E8F-B983-7231CC4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438-49BA-46AD-A797-17223A0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5E5-464F-47EB-85B2-0D86F3B5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4DF-D63E-414F-8AF4-777C62D6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60B-7DBD-46DE-90E3-8FA66F9D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3C8-0454-4849-8BF8-8B40A87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E3C-ECE6-407C-B134-C1624DEC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mailto:tlluch@ub.ed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file:///O-CARAC-Oficial.ppt" TargetMode="External"/><Relationship Id="rId7" Type="http://schemas.openxmlformats.org/officeDocument/2006/relationships/hyperlink" Target="file:///O-CARAC-Conceptual.ppt" TargetMode="External"/><Relationship Id="rId8" Type="http://schemas.openxmlformats.org/officeDocument/2006/relationships/hyperlink" Target="file:///O-CARAC-Personal.ppt" TargetMode="External"/><Relationship Id="rId9" Type="http://schemas.openxmlformats.org/officeDocument/2006/relationships/hyperlink" Target="file:///O-CARAC-Operativo.ppt" TargetMode="External"/><Relationship Id="rId10" Type="http://schemas.openxmlformats.org/officeDocument/2006/relationships/hyperlink" Target="file:///O-CARAC-Nuclear.ppt" TargetMode="External"/><Relationship Id="rId11" Type="http://schemas.openxmlformats.org/officeDocument/2006/relationships/image" Target="../media/image2.jpe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052640"/>
            <a:ext cx="7920000" cy="3915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Monotype Corsiva"/>
              </a:rPr>
              <a:t>¿Que significa INVESTIGA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Desarrollo de la Actividad Investigadora según nive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1486080" cy="272880"/>
          </a:xfrm>
          <a:prstGeom prst="rect">
            <a:avLst/>
          </a:prstGeom>
          <a:ln w="28440">
            <a:solidFill>
              <a:srgbClr val="ffcc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44280"/>
            <a:ext cx="2016000" cy="687600"/>
          </a:xfrm>
          <a:prstGeom prst="rect">
            <a:avLst/>
          </a:prstGeom>
          <a:ln w="28440">
            <a:solidFill>
              <a:srgbClr val="ffcc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466560" y="5373720"/>
            <a:ext cx="8209080" cy="139536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Maria Teresa LLUCH CAN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Catedratica de Enfermería Psicosocial y Salud Mental. Departamento de Enfermería de Salud Pública, Salud Mental y Materno-Infantil. Escuela de Enfermeria. Universidad de Barcelona. Email: </a:t>
            </a:r>
            <a:r>
              <a:rPr b="0" lang="ca-ES" sz="14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tlluch@ub.edu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Barcelona: octu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1052640"/>
            <a:ext cx="7920000" cy="460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Monotype Corsiva"/>
              </a:rPr>
              <a:t>El trabajo que se presenta contiene una doble estructura: explicación conceptual (texto) y presentación visual (pp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Monotype Corsiva"/>
              </a:rPr>
              <a:t>Gran parte del texto se ha extraído del artículo publicado por la propia autora en la revista Presencia, 2005; 1(1) bajo el título </a:t>
            </a:r>
            <a:r>
              <a:rPr b="1" lang="es-ES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Monotype Corsiva"/>
              </a:rPr>
              <a:t>¿Qué significa investigar? Sugerencias y reflexiones para la promoción de la investigación en Enfermería”. Disponible en. http:www.index-f.com/presencia/n1/4articulo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Monotype Corsiva"/>
              </a:rPr>
              <a:t>Tanto el contenido como algunos espacios </a:t>
            </a:r>
            <a:r>
              <a:rPr b="1" i="1" lang="es-ES" sz="2000" spc="-1" strike="noStrike">
                <a:solidFill>
                  <a:srgbClr val="000000"/>
                </a:solidFill>
                <a:latin typeface="Monotype Corsiva"/>
              </a:rPr>
              <a:t>web </a:t>
            </a:r>
            <a:r>
              <a:rPr b="1" lang="es-ES" sz="2000" spc="-1" strike="noStrike">
                <a:solidFill>
                  <a:srgbClr val="000000"/>
                </a:solidFill>
                <a:latin typeface="Monotype Corsiva"/>
              </a:rPr>
              <a:t>seleccionados están bajo el marco de la investigación en Ciencias de la Salud (y de forma específica en Enfermería) y, por tanto, podrán ser ampliados/suplantados por otros más afines al área de conocimientos en la que se aplique la presentación de ¿Qué significa investi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6560" y="5151600"/>
            <a:ext cx="8209080" cy="145656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Maria Teresa LLUCH CA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Catedratica de Enfermería Psicosocial y Salud Mental. Departamento de Enfermería de Salud Pública, Salud Mental y Materno-Infantil. Escuela de Enfermeria. Universidad de Barcelona. Email: tlluch@ub.edu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0"/>
            <a:ext cx="9107640" cy="276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¿Qué significa investigar?.  Desarrollo de la actividad investigadora según niveles (M.T. Lluch,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360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360" y="720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74920" y="476280"/>
            <a:ext cx="6192720" cy="116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6560" y="1700280"/>
            <a:ext cx="7129440" cy="116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870280"/>
            <a:ext cx="7775280" cy="116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094280"/>
            <a:ext cx="8424720" cy="116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19720"/>
            <a:ext cx="9144000" cy="116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0"/>
            <a:ext cx="9107640" cy="276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¿Qué significa investigar?.  Desarrollo de la actividad investigadora según niveles (M.T. Lluch,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893880"/>
            <a:ext cx="2519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O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2048040"/>
            <a:ext cx="3311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CONCEP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3273480"/>
            <a:ext cx="3600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4440240"/>
            <a:ext cx="3889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OP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5664240"/>
            <a:ext cx="432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12000" y="-8100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792000"/>
            <a:ext cx="976320" cy="586080"/>
          </a:xfrm>
          <a:prstGeom prst="rightArrow">
            <a:avLst>
              <a:gd name="adj1" fmla="val 50000"/>
              <a:gd name="adj2" fmla="val 41646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1996920"/>
            <a:ext cx="976320" cy="586080"/>
          </a:xfrm>
          <a:prstGeom prst="rightArrow">
            <a:avLst>
              <a:gd name="adj1" fmla="val 50000"/>
              <a:gd name="adj2" fmla="val 41646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314964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437364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56720" y="560700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782640"/>
            <a:ext cx="936720" cy="649440"/>
          </a:xfrm>
          <a:prstGeom prst="leftArrow">
            <a:avLst>
              <a:gd name="adj1" fmla="val 50000"/>
              <a:gd name="adj2" fmla="val 3605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6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2006640"/>
            <a:ext cx="936720" cy="649080"/>
          </a:xfrm>
          <a:prstGeom prst="leftArrow">
            <a:avLst>
              <a:gd name="adj1" fmla="val 50000"/>
              <a:gd name="adj2" fmla="val 3607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7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159000"/>
            <a:ext cx="936720" cy="649440"/>
          </a:xfrm>
          <a:prstGeom prst="leftArrow">
            <a:avLst>
              <a:gd name="adj1" fmla="val 50000"/>
              <a:gd name="adj2" fmla="val 3605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8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383000"/>
            <a:ext cx="936720" cy="649440"/>
          </a:xfrm>
          <a:prstGeom prst="leftArrow">
            <a:avLst>
              <a:gd name="adj1" fmla="val 50000"/>
              <a:gd name="adj2" fmla="val 3605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9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607000"/>
            <a:ext cx="936720" cy="649440"/>
          </a:xfrm>
          <a:prstGeom prst="leftArrow">
            <a:avLst>
              <a:gd name="adj1" fmla="val 50000"/>
              <a:gd name="adj2" fmla="val 3605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10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34920" y="360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36360" y="720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648972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0:56:02Z</dcterms:created>
  <dc:creator>PC</dc:creator>
  <dc:description/>
  <dc:language>en-US</dc:language>
  <cp:lastModifiedBy>PC</cp:lastModifiedBy>
  <dcterms:modified xsi:type="dcterms:W3CDTF">2008-11-13T21:59:48Z</dcterms:modified>
  <cp:revision>20</cp:revision>
  <dc:subject/>
  <dc:title>Diapositiva 1</dc:title>
</cp:coreProperties>
</file>