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651-C1CD-411C-9525-3CD9C3C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7D0-7068-4705-8627-906DCD11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134-7914-4534-9C8C-797B8108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B20-5AA7-4DF2-8BBA-AE7CD120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DEE-FA33-4306-A36C-D4C9EC5E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232-4730-4205-B355-553D68B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1AE-2E3C-4A7D-88FB-5359604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F6E-ECE9-46A4-8C89-4E8B79D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FEE-9CA4-4241-88B2-FC362B39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627-F702-47DF-9344-04399AB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3A0-E655-482C-9747-8306580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1FF-2215-4FD4-9D5F-BFC9333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8F2-36CD-4805-A7B2-E4A1190D85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55640" y="-835200"/>
            <a:ext cx="10080720" cy="793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-1467000"/>
            <a:ext cx="9217080" cy="86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-963720"/>
            <a:ext cx="925164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1160" y="-531720"/>
            <a:ext cx="94075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973080" y="-1324080"/>
            <a:ext cx="11090160" cy="85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52360" y="-1179360"/>
            <a:ext cx="1015344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30:05Z</dcterms:created>
  <dc:creator>PC</dc:creator>
  <dc:description/>
  <dc:language>en-US</dc:language>
  <cp:lastModifiedBy>PC</cp:lastModifiedBy>
  <dcterms:modified xsi:type="dcterms:W3CDTF">2008-11-02T21:56:32Z</dcterms:modified>
  <cp:revision>3</cp:revision>
  <dc:subject/>
  <dc:title>Diapositiva 1</dc:title>
</cp:coreProperties>
</file>