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4396-35E6-422E-91FC-36217F20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2EA6-A6BE-467B-ACF9-4A2C55BC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5566-D022-4D6C-B4F8-F270826B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459-4C06-4342-802D-19D22317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5E2D-A79C-485E-A6D1-098CC429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46CE-5115-40B5-A7C0-F2E7C577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A938-7CED-4488-AC19-51F610A7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D67A-88AA-455C-A4DD-2369C818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CE83-6EEC-491E-8A3A-C52B25CF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6E30-A400-4EC3-8272-D38A127D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7534-0D65-4E1B-93AF-592E7500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5E7D-903E-4695-8A58-3FE304AB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8D3F-A279-44C4-ACE1-CD67CC3F2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395360"/>
            <a:ext cx="13860360" cy="90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192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6360" y="-243000"/>
            <a:ext cx="10009080" cy="741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405080" y="-892080"/>
            <a:ext cx="12072960" cy="81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263520" y="-380880"/>
            <a:ext cx="10667880" cy="73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1836720" y="-171360"/>
            <a:ext cx="1116180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636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6360" y="-963720"/>
            <a:ext cx="10667880" cy="82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636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636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636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4:07:53Z</dcterms:created>
  <dc:creator>PC</dc:creator>
  <dc:description/>
  <dc:language>en-US</dc:language>
  <cp:lastModifiedBy>PC</cp:lastModifiedBy>
  <dcterms:modified xsi:type="dcterms:W3CDTF">2008-11-04T11:25:54Z</dcterms:modified>
  <cp:revision>6</cp:revision>
  <dc:subject/>
  <dc:title>Diapositiva 1</dc:title>
</cp:coreProperties>
</file>