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A8DC-D45E-4242-83CA-CA6CFEA2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C78-74EE-487D-8B40-A05470C9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E330-71C3-4687-88FE-85ACC371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2587-E302-489B-82A8-EA42B3F6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8170-1442-4961-8BCC-C3853D40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2A48-9D42-496F-BBE0-47D6FF3A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6B33-5BD7-40F3-9848-DE46AB33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BC65-8BB0-48F6-B342-645E09FF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9B63-F322-4772-8FA2-FA594E23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39CB-C94C-41B0-B6C3-81E50ECE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AA82-9769-491E-A986-DBA64AA2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FA9E-5FA2-43D5-9EBE-3F14CCF5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A3FB-6BDB-45DD-A96B-3E404E1E1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-1523880" y="-380880"/>
            <a:ext cx="12191760" cy="79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1523880" y="-819000"/>
            <a:ext cx="12191760" cy="80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2133720"/>
            <a:ext cx="1584360" cy="1368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GR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013360"/>
            <a:ext cx="1584360" cy="1368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GR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59640" y="1773360"/>
            <a:ext cx="1584360" cy="1368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GR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0000" y="1197000"/>
            <a:ext cx="1584000" cy="1368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GR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ordin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04000" y="5013360"/>
            <a:ext cx="1584360" cy="1368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GR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36000" y="3429000"/>
            <a:ext cx="144360" cy="1584360"/>
          </a:xfrm>
          <a:prstGeom prst="line">
            <a:avLst/>
          </a:prstGeom>
          <a:ln w="324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5229360"/>
            <a:ext cx="1584000" cy="1368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GR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47640" y="62064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81080" y="189000"/>
            <a:ext cx="1654200" cy="668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24000" y="2997360"/>
            <a:ext cx="4896000" cy="2016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Red de Invest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Enfermería de Salu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Mental y Adiccion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085840" y="2133720"/>
            <a:ext cx="1656000" cy="790560"/>
          </a:xfrm>
          <a:prstGeom prst="line">
            <a:avLst/>
          </a:prstGeom>
          <a:ln w="3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3500280"/>
            <a:ext cx="0" cy="1513080"/>
          </a:xfrm>
          <a:prstGeom prst="line">
            <a:avLst/>
          </a:prstGeom>
          <a:ln w="3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158560" y="5734080"/>
            <a:ext cx="4824360" cy="0"/>
          </a:xfrm>
          <a:prstGeom prst="line">
            <a:avLst/>
          </a:prstGeom>
          <a:ln w="3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64000" y="1989000"/>
            <a:ext cx="1295640" cy="503280"/>
          </a:xfrm>
          <a:prstGeom prst="line">
            <a:avLst/>
          </a:prstGeom>
          <a:ln w="3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619280" y="2421000"/>
            <a:ext cx="2232000" cy="2592360"/>
          </a:xfrm>
          <a:prstGeom prst="line">
            <a:avLst/>
          </a:prstGeom>
          <a:ln w="3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4572000" y="2491920"/>
            <a:ext cx="2665440" cy="2521080"/>
          </a:xfrm>
          <a:prstGeom prst="line">
            <a:avLst/>
          </a:prstGeom>
          <a:ln w="3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1834920" y="3429000"/>
            <a:ext cx="5041800" cy="2016000"/>
          </a:xfrm>
          <a:prstGeom prst="line">
            <a:avLst/>
          </a:prstGeom>
          <a:ln w="3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014560" y="2924280"/>
            <a:ext cx="4933800" cy="2449440"/>
          </a:xfrm>
          <a:prstGeom prst="line">
            <a:avLst/>
          </a:prstGeom>
          <a:ln w="3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64360" y="3429000"/>
            <a:ext cx="1584360" cy="1368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GR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2123640" y="2637000"/>
            <a:ext cx="4969080" cy="1512720"/>
          </a:xfrm>
          <a:prstGeom prst="line">
            <a:avLst/>
          </a:prstGeom>
          <a:ln w="3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67640" y="3068640"/>
            <a:ext cx="0" cy="360360"/>
          </a:xfrm>
          <a:prstGeom prst="line">
            <a:avLst/>
          </a:prstGeom>
          <a:ln w="3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7524720" y="4797360"/>
            <a:ext cx="287280" cy="216000"/>
          </a:xfrm>
          <a:prstGeom prst="line">
            <a:avLst/>
          </a:prstGeom>
          <a:ln w="3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-828720" y="-1179360"/>
            <a:ext cx="9753480" cy="10117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11280" y="1603440"/>
            <a:ext cx="6696000" cy="4597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íneas de invest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1989000"/>
            <a:ext cx="6624720" cy="173592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99"/>
                </a:solidFill>
                <a:latin typeface="Arial"/>
              </a:rPr>
              <a:t>Trastornos Mentales Severos: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valuación de la efectividad de la Atención Domiciliaria de Enfermerí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nálisis de costos de la atención a los pacientes con T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nálisis de las necesidades de los pacientes con T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strucción y validación de instrumentos según model de D. Or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tilitzación de las taxonomias enfermeras en Unidades de Agu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3716280"/>
            <a:ext cx="6624720" cy="118008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99"/>
                </a:solidFill>
                <a:latin typeface="Arial"/>
              </a:rPr>
              <a:t>Drogodependencias y Patologia Dual:</a:t>
            </a:r>
            <a:r>
              <a:rPr b="1" i="1" lang="es-ES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nálisis de necesidades y diagnósticos de Enfermería preval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iseño y Validación Planes de Cuidados con taxonomi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NDA-NOC-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4869000"/>
            <a:ext cx="6624720" cy="132300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99"/>
                </a:solidFill>
                <a:latin typeface="Arial"/>
              </a:rPr>
              <a:t>Promoción  y  Prevención:</a:t>
            </a: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Prevención de factores de riesgo psicopatologico en población universit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onstrucción y validación de instrumentos para evaluar la Salud Mental Posi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6237360"/>
            <a:ext cx="6624720" cy="83016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Trastornos emocionales: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epresión y familia: Factores ideológicos en la vivencia de la enferm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-304920" y="-1324080"/>
            <a:ext cx="9753840" cy="10117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16000" y="1531800"/>
            <a:ext cx="6769080" cy="4597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ción Cient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24000" y="2112840"/>
            <a:ext cx="5077080" cy="331704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99"/>
                </a:solidFill>
                <a:latin typeface="Arial"/>
              </a:rPr>
              <a:t>15 Proyectos subvencio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99"/>
                </a:solidFill>
                <a:latin typeface="Arial"/>
              </a:rPr>
              <a:t>32 Articulos publi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99"/>
                </a:solidFill>
                <a:latin typeface="Arial"/>
              </a:rPr>
              <a:t>Comunicaciones  / Ponencias</a:t>
            </a:r>
            <a:r>
              <a:rPr b="1" i="1" lang="es-ES" sz="28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0200" y="5627520"/>
            <a:ext cx="6266160" cy="758880"/>
          </a:xfrm>
          <a:prstGeom prst="rect">
            <a:avLst/>
          </a:prstGeom>
          <a:noFill/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os contactos nacionales e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a, EEUU, Australia, Canad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136440"/>
            <a:ext cx="8642160" cy="7646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gredientes básic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 iniciar la configuración de una estructura de investigación en Red en Enferm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1112760"/>
            <a:ext cx="7920000" cy="185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y que ten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anas de hacer  I+ D y de trabajar en 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deas (proyec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ente (investigad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3675240"/>
            <a:ext cx="8569080" cy="7646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tros ingredient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 hacer avanzar la estructura de investigación en Red en Enferm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3080" y="4724280"/>
            <a:ext cx="73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9933"/>
              </a:buClr>
              <a:buFont typeface="Arial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9933"/>
              </a:buClr>
              <a:buFont typeface="Arial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4654440"/>
            <a:ext cx="7993080" cy="181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terconexión entre enfermería asistencial y doc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Existencia de convocatorias oficiales de investigación con requisitos accesibles y líneas de investigación afí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Apoyo y reconocimiento institu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1523880" y="-747720"/>
            <a:ext cx="12191760" cy="79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1523880" y="-674640"/>
            <a:ext cx="12191760" cy="79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-1523880" y="-747720"/>
            <a:ext cx="12191760" cy="79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-1523880" y="-1395360"/>
            <a:ext cx="12191760" cy="86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-1523880" y="-603360"/>
            <a:ext cx="12191760" cy="78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16:38:21Z</dcterms:created>
  <dc:creator>PC</dc:creator>
  <dc:description/>
  <dc:language>en-US</dc:language>
  <cp:lastModifiedBy>PC</cp:lastModifiedBy>
  <dcterms:modified xsi:type="dcterms:W3CDTF">2008-11-04T12:55:25Z</dcterms:modified>
  <cp:revision>6</cp:revision>
  <dc:subject/>
  <dc:title>Diapositiva 1</dc:title>
</cp:coreProperties>
</file>