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AFC-DD3D-4468-AAC1-352806B5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1E5-1862-4F16-89B3-1C81676E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F45-D65B-4B0D-8EEF-7608C8C9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46B9-2CE6-4ACC-B381-4DF1A37C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4B4-1CF7-427B-A4F9-F1514E7B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7082-AA7A-493D-8950-2B9F5EA9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526-6D25-46B1-A6E1-5D530503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A2B-6AE7-4AA2-8CB5-A2561204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480-3DE3-4FCC-B31E-BC01A871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22A-2B0A-47B4-9DC7-5FD7C37B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ADD0-5CA1-4735-ACB1-C2A3DEB3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C2EB-CFBE-4C6C-86EE-738CC8FF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1325-3ADE-46AF-BE58-78DE8A130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hyperlink" Target="file:///O-Nivel%20Personal.pdf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452520"/>
            <a:ext cx="878544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Monotype Corsiva"/>
              </a:rPr>
              <a:t>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Monotype Corsiva"/>
              </a:rPr>
              <a:t>                                </a:t>
            </a:r>
            <a:r>
              <a:rPr b="1" lang="en-US" sz="2800" spc="-1" strike="noStrike">
                <a:solidFill>
                  <a:srgbClr val="6633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9840" y="452520"/>
            <a:ext cx="42498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ivel  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1123920"/>
            <a:ext cx="4392720" cy="151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2852640"/>
            <a:ext cx="3095640" cy="11527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rial"/>
              </a:rPr>
              <a:t>Satisf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33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4076640"/>
            <a:ext cx="3095640" cy="10796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rial"/>
              </a:rPr>
              <a:t>Auto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300640"/>
            <a:ext cx="3024360" cy="10098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rial"/>
              </a:rPr>
              <a:t>Autoconce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rial"/>
              </a:rPr>
              <a:t>-Intelectual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1125360"/>
            <a:ext cx="4033800" cy="151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PROFE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92720" y="2852640"/>
            <a:ext cx="3382920" cy="11527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eritos curri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19640" y="4076640"/>
            <a:ext cx="3456000" cy="11527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ramos e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arrera profe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92720" y="5300640"/>
            <a:ext cx="3382920" cy="1008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Especi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rofe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44280"/>
            <a:ext cx="892800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¿Qué significa investigar?. Desarrollo de la actividad investigadora según niveles. (M.T. Lluch, 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08000" y="404640"/>
            <a:ext cx="720720" cy="3319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09440" y="765000"/>
            <a:ext cx="720720" cy="13356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7740720" y="476280"/>
            <a:ext cx="976320" cy="585720"/>
          </a:xfrm>
          <a:prstGeom prst="rightArrow">
            <a:avLst>
              <a:gd name="adj1" fmla="val 50000"/>
              <a:gd name="adj2" fmla="val 4167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Monotype Corsiva"/>
                <a:hlinkClick r:id="rId5"/>
              </a:rPr>
              <a:t>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453360"/>
            <a:ext cx="9144000" cy="400680"/>
          </a:xfrm>
          <a:prstGeom prst="rect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Maria Teresa LLUCH CANUT Catedratica de Enfermería Psicosocial y Salud Mental Escuela de Enfermeria. Universidad de Barcelona. Email: tlluch@ub.edu</a:t>
            </a:r>
            <a:r>
              <a:rPr b="0" lang="ca-E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Barcelona: octubre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Este documento está sujeto a una Licencia Creative Commons (http://creativecommons.org/licenses/by-nc-sa/2.5/es/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22:38:15Z</dcterms:created>
  <dc:creator>PC</dc:creator>
  <dc:description/>
  <dc:language>en-US</dc:language>
  <cp:lastModifiedBy>PC</cp:lastModifiedBy>
  <dcterms:modified xsi:type="dcterms:W3CDTF">2008-11-13T22:06:38Z</dcterms:modified>
  <cp:revision>14</cp:revision>
  <dc:subject/>
  <dc:title>Diapositiva 1</dc:title>
</cp:coreProperties>
</file>