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516-6673-4793-82BA-1B906E69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BD7-0D2F-48CB-87A9-8ADCE5D7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B7B-2BF2-451C-9879-87029EF4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938-6705-4AB1-A358-47DF9C3F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8CD-E6C1-480A-BFA9-1AB542E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B7F-D565-470E-B480-9CECDE4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8E1-D1EA-4334-8D66-3BD53D2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7A4-D825-4335-94B7-B93C3A06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9ED-6A3B-415A-B7FC-F4675F9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0C5-ED37-468E-B830-35FD018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8FB-2535-4EEA-B63E-0FB4EAE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4E5-7C3B-4B4D-A607-5FF41F5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4F3A-B210-4407-A848-8749635CA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O-REVISTAS.ppt" TargetMode="External"/><Relationship Id="rId4" Type="http://schemas.openxmlformats.org/officeDocument/2006/relationships/hyperlink" Target="file:///O-REVISTAS.ppt" TargetMode="External"/><Relationship Id="rId5" Type="http://schemas.openxmlformats.org/officeDocument/2006/relationships/hyperlink" Target="file:///O-Nivel%20Operativo.pdf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7160"/>
            <a:ext cx="2590560" cy="1438200"/>
          </a:xfrm>
          <a:prstGeom prst="ellipse">
            <a:avLst/>
          </a:prstGeom>
          <a:gradFill rotWithShape="0">
            <a:gsLst>
              <a:gs pos="0">
                <a:srgbClr val="feeca7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RM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711520"/>
            <a:ext cx="254304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rtíc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005360"/>
            <a:ext cx="249840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su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229360"/>
            <a:ext cx="25905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na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n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23800"/>
            <a:ext cx="8785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9840" y="523800"/>
            <a:ext cx="4249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4920" y="1050840"/>
            <a:ext cx="2590920" cy="1511280"/>
          </a:xfrm>
          <a:prstGeom prst="ellipse">
            <a:avLst/>
          </a:prstGeom>
          <a:gradFill rotWithShape="0">
            <a:gsLst>
              <a:gs pos="0">
                <a:srgbClr val="feeca7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star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4920" y="2781360"/>
            <a:ext cx="254340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  <a:hlinkClick r:id="rId3"/>
              </a:rPr>
              <a:t>Revis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  <a:hlinkClick r:id="rId4"/>
              </a:rPr>
              <a:t>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4075200"/>
            <a:ext cx="24987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es de D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4920" y="5299200"/>
            <a:ext cx="2590920" cy="10825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stas 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1095480"/>
            <a:ext cx="2590920" cy="1511280"/>
          </a:xfrm>
          <a:prstGeom prst="ellipse">
            <a:avLst/>
          </a:prstGeom>
          <a:gradFill rotWithShape="0">
            <a:gsLst>
              <a:gs pos="0">
                <a:srgbClr val="feeca7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2825640"/>
            <a:ext cx="254340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ublicar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ev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119480"/>
            <a:ext cx="257184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sisti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5343480"/>
            <a:ext cx="2590920" cy="10382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gan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r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0" cy="5805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1052640"/>
            <a:ext cx="0" cy="5805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37000"/>
            <a:ext cx="8642160" cy="71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actividad investigadora según niveles.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0720" y="47628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663300"/>
                </a:solidFill>
                <a:uFillTx/>
                <a:latin typeface="Monotype Corsiva"/>
                <a:hlinkClick r:id="rId5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5336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800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0800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13T22:06:07Z</dcterms:modified>
  <cp:revision>19</cp:revision>
  <dc:subject/>
  <dc:title>Diapositiva 1</dc:title>
</cp:coreProperties>
</file>