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BF4-61DB-458E-ACA7-126BB284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141-F3B3-44FF-84B5-1CFCA905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074-1113-4A07-B237-7A27CB70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415-17F9-4E88-9B71-2FC049E3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7D8-B40A-4482-88B3-7BC16259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C55-1F1F-4206-A3E4-6F3A3DD4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9B6-0429-40ED-AABB-501B562A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808-4DBD-42C3-AD9B-F9710D07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6EF-D0F2-43C1-95AD-AD648A07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2FF-C792-4248-884E-02A48DC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0694-F8D4-4D54-A39D-894F990A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F1B-4D27-44B8-A4CF-7F13EB89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44CC-47C1-4A3F-AB1B-D26B9524F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O-Principios%20nucleares.ppt" TargetMode="External"/><Relationship Id="rId4" Type="http://schemas.openxmlformats.org/officeDocument/2006/relationships/hyperlink" Target="file:///O-ETICA.ppt" TargetMode="External"/><Relationship Id="rId5" Type="http://schemas.openxmlformats.org/officeDocument/2006/relationships/hyperlink" Target="file:///O-Nivel%20Nuclear.pdf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52520"/>
            <a:ext cx="87854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Monotype Corsiva"/>
              </a:rPr>
              <a:t>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2920" y="407880"/>
            <a:ext cx="42498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vel  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44280"/>
            <a:ext cx="892800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¿Qué significa investigar?. Desarrollo de la  actividad investigadora según niveles (M.T. Lluch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2200" y="1127160"/>
            <a:ext cx="8497800" cy="1222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Arial"/>
              </a:rPr>
              <a:t>PONERSE A TRABAJ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492280"/>
            <a:ext cx="792000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1. Encontrar un tema / área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789360"/>
            <a:ext cx="7848360" cy="1079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. Buscar / Juntarse con g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que comparte el mismo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5300640"/>
            <a:ext cx="7775280" cy="10098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. Tener presente lo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principios nucleares </a:t>
            </a: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e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/>
              </a:rPr>
              <a:t>Código Ético </a:t>
            </a: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de la investi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56720" y="466560"/>
            <a:ext cx="976320" cy="586080"/>
          </a:xfrm>
          <a:prstGeom prst="rightArrow">
            <a:avLst>
              <a:gd name="adj1" fmla="val 50000"/>
              <a:gd name="adj2" fmla="val 41646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Monotype Corsiva"/>
                <a:hlinkClick r:id="rId5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48320"/>
            <a:ext cx="9144000" cy="4006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Maria Teresa LLUCH CANUT Catedratica de Enfermería Psicosocial y Salud Mental Escuela de Enfermeria. Universidad de Barcelona. Email: tlluch@ub.edu</a:t>
            </a:r>
            <a:r>
              <a:rPr b="0" lang="ca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Barcelona: octubr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Este documento está sujeto a una Licencia Creative Commons (http://creativecommons.org/licenses/by-nc-sa/2.5/e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179280" y="414360"/>
            <a:ext cx="720720" cy="3319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179280" y="774720"/>
            <a:ext cx="720720" cy="1332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2:38:15Z</dcterms:created>
  <dc:creator>PC</dc:creator>
  <dc:description/>
  <dc:language>en-US</dc:language>
  <cp:lastModifiedBy>PC</cp:lastModifiedBy>
  <dcterms:modified xsi:type="dcterms:W3CDTF">2008-11-13T22:02:53Z</dcterms:modified>
  <cp:revision>20</cp:revision>
  <dc:subject/>
  <dc:title>Diapositiva 1</dc:title>
</cp:coreProperties>
</file>