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401-46E6-496A-9FC0-29C93B50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4F3-12C1-41AB-976F-8AD0513F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FEB-0C9A-4A7A-96CD-E250177F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BC8-BAD3-49E9-9982-835E1F1B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3EA-F08F-4CBD-9C2E-0FAF2FAE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EF7-EEB3-4661-8F4E-C5E565C0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17F-A98E-4BB8-9E71-E5E2A0CF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860-FFB3-4C95-B94B-F096EC09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410-B61C-479D-92B0-25D37AAB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105-886B-4C16-9C20-F550001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EF0-D040-469E-AFF5-67F5D2F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C21-2231-4AB2-A76C-8BDFE9C4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63B7-F767-4E6F-ACCA-501580D2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O-EUROPA.ppt" TargetMode="External"/><Relationship Id="rId4" Type="http://schemas.openxmlformats.org/officeDocument/2006/relationships/hyperlink" Target="file:///O-ESPA&#209;A.ppt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97000"/>
            <a:ext cx="2232000" cy="1155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+ D +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2700360"/>
            <a:ext cx="2232000" cy="10159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4003560"/>
            <a:ext cx="2190600" cy="1016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5153040"/>
            <a:ext cx="2232000" cy="10159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44280"/>
            <a:ext cx="892800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¿Qué significa investigar?. Desarrollo de la actividad investigadora según niveles. (M.T. Lluch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549360"/>
            <a:ext cx="88567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Monotype Corsiva"/>
              </a:rPr>
              <a:t>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549360"/>
            <a:ext cx="4249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O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197000"/>
            <a:ext cx="338436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BAJAR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STRUC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2920" y="2708280"/>
            <a:ext cx="1954080" cy="10098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PLANE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98760" y="4003560"/>
            <a:ext cx="2001960" cy="10098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PROGRA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5156280"/>
            <a:ext cx="2001960" cy="10094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2708280"/>
            <a:ext cx="2232360" cy="10098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A ni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EUROP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4005360"/>
            <a:ext cx="2160720" cy="10094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A ni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ESPAÑ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5154480"/>
            <a:ext cx="2160720" cy="10098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A ni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AUTONO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2400" y="1268280"/>
            <a:ext cx="227160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BAJAR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2708280"/>
            <a:ext cx="2170080" cy="10098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GRUP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4005360"/>
            <a:ext cx="2195640" cy="10094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REDE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1339920"/>
            <a:ext cx="0" cy="48243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492280"/>
            <a:ext cx="0" cy="36720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413000"/>
            <a:ext cx="0" cy="48243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492280"/>
            <a:ext cx="88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3006720"/>
            <a:ext cx="576360" cy="349200"/>
          </a:xfrm>
          <a:prstGeom prst="rightArrow">
            <a:avLst>
              <a:gd name="adj1" fmla="val 50000"/>
              <a:gd name="adj2" fmla="val 4126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924280"/>
            <a:ext cx="505080" cy="431640"/>
          </a:xfrm>
          <a:prstGeom prst="leftArrow">
            <a:avLst>
              <a:gd name="adj1" fmla="val 50000"/>
              <a:gd name="adj2" fmla="val 29254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Monotype Corsiva"/>
                <a:hlinkClick r:id="rId3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221000"/>
            <a:ext cx="505080" cy="432000"/>
          </a:xfrm>
          <a:prstGeom prst="leftArrow">
            <a:avLst>
              <a:gd name="adj1" fmla="val 50000"/>
              <a:gd name="adj2" fmla="val 2922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Monotype Corsiva"/>
                <a:hlinkClick r:id="rId4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5373720"/>
            <a:ext cx="505080" cy="431640"/>
          </a:xfrm>
          <a:prstGeom prst="leftArrow">
            <a:avLst>
              <a:gd name="adj1" fmla="val 50000"/>
              <a:gd name="adj2" fmla="val 29254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Monotype Corsiva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4221000"/>
            <a:ext cx="576360" cy="349560"/>
          </a:xfrm>
          <a:prstGeom prst="rightArrow">
            <a:avLst>
              <a:gd name="adj1" fmla="val 50000"/>
              <a:gd name="adj2" fmla="val 4122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27640" y="5384880"/>
            <a:ext cx="576360" cy="349200"/>
          </a:xfrm>
          <a:prstGeom prst="rightArrow">
            <a:avLst>
              <a:gd name="adj1" fmla="val 50000"/>
              <a:gd name="adj2" fmla="val 4126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48360" y="4221000"/>
            <a:ext cx="503280" cy="432000"/>
          </a:xfrm>
          <a:prstGeom prst="leftArrow">
            <a:avLst>
              <a:gd name="adj1" fmla="val 50000"/>
              <a:gd name="adj2" fmla="val 2912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Monotype Corsiva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04360" y="4221000"/>
            <a:ext cx="576000" cy="349560"/>
          </a:xfrm>
          <a:prstGeom prst="rightArrow">
            <a:avLst>
              <a:gd name="adj1" fmla="val 50000"/>
              <a:gd name="adj2" fmla="val 4119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08000" y="41436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08000" y="774720"/>
            <a:ext cx="720720" cy="1332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12000" y="549360"/>
            <a:ext cx="976320" cy="585720"/>
          </a:xfrm>
          <a:prstGeom prst="rightArrow">
            <a:avLst>
              <a:gd name="adj1" fmla="val 50000"/>
              <a:gd name="adj2" fmla="val 416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453360"/>
            <a:ext cx="9144000" cy="4006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Maria Teresa LLUCH CANUT Catedratica de Enfermería Psicosocial y Salud Mental Escuela de Enfermeria. Universidad de Barcelona. Email: tlluch@ub.edu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2:38:15Z</dcterms:created>
  <dc:creator>PC</dc:creator>
  <dc:description/>
  <dc:language>en-US</dc:language>
  <cp:lastModifiedBy>PC</cp:lastModifiedBy>
  <dcterms:modified xsi:type="dcterms:W3CDTF">2008-11-13T22:05:18Z</dcterms:modified>
  <cp:revision>19</cp:revision>
  <dc:subject/>
  <dc:title>Diapositiva 1</dc:title>
</cp:coreProperties>
</file>