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CE8D2-71DB-4409-97CD-08293EC66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029B9-ED62-473C-BDCC-127B53E32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B4C5D-5D1D-4224-A4E4-E8EF49C91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31B70-693B-4FDD-8F62-D2749672A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DA192-67EA-44FD-A523-6CF79E3A5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B0B6E-1E03-4835-92D1-873110221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0A965-D0D6-4B46-AB78-EFF7F529A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D0E4E-F3AE-4B60-85B1-50DD4ADEF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374E9-2F3C-4CB1-9BDA-5CB6E492F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1F670-8B34-44B5-B2AA-4FF561D7F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C8C37-FFC9-4DDB-BE94-BA44035DF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77282-3A00-4632-8B0F-185A67D14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7B46B-2734-4421-8558-2BB61028F4EA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458640"/>
            <a:ext cx="10117080" cy="750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-1549440" y="0"/>
            <a:ext cx="12720600" cy="784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-1523880" y="-380880"/>
            <a:ext cx="12191760" cy="76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-1523880" y="-380880"/>
            <a:ext cx="12191760" cy="76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-1523880" y="-380880"/>
            <a:ext cx="12191760" cy="76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-1523880" y="-380880"/>
            <a:ext cx="12191760" cy="76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-1523880" y="-380880"/>
            <a:ext cx="12191760" cy="76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-1523880" y="-380880"/>
            <a:ext cx="12191760" cy="76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-1523880" y="-380880"/>
            <a:ext cx="12191760" cy="76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11:17:19Z</dcterms:created>
  <dc:creator>PC</dc:creator>
  <dc:description/>
  <dc:language>en-US</dc:language>
  <cp:lastModifiedBy>ub</cp:lastModifiedBy>
  <dcterms:modified xsi:type="dcterms:W3CDTF">2008-10-22T14:26:20Z</dcterms:modified>
  <cp:revision>3</cp:revision>
  <dc:subject/>
  <dc:title>Diapositiva 1</dc:title>
</cp:coreProperties>
</file>